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35C-5CAA-4D7D-8AC7-A01103E6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5C5-9372-4F37-A19F-AF62328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5B5-B0A7-4C8F-A9C5-D54928C9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A55-6649-47BE-B013-F8240788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E29-A792-4981-9114-97234BA0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DD5-DA96-41CF-97A5-3D50E259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08E-0A49-44EC-9E60-ED49A08B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886-85E2-4B0F-80E7-D206CDE9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A30-8423-41CA-ABC0-D914DBE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A64-8C86-4E8D-B47D-E65E1FF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18D-269B-413A-B93B-8330974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929-3EA6-49D3-A655-4DCB4A5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0BC-C708-41BC-9E91-128D9411A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estas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- Complete with the correct form of SER or ES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lase de ingles _________ abur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éctor y Luisa _________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 de Urugu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ú ___________ en Puerto R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afetería y el laboratorio ________ en el sót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rge _________una persona sinc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asa ____________ en Nueva Jers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_____ contento h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6 nh 602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8 de abril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036800"/>
            <a:ext cx="83818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7; use at least 2 sentences to describe each patient (one using SER and another using EST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2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8 (1-8) and WRITE if the sentence describes an ORIGIN or a COLOCA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23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0:35:23Z</dcterms:created>
  <dc:creator>Helen Zumaeta</dc:creator>
  <dc:description/>
  <dc:language>en-US</dc:language>
  <cp:lastModifiedBy>Helen Zumaeta</cp:lastModifiedBy>
  <cp:lastPrinted>2013-04-08T12:38:11Z</cp:lastPrinted>
  <dcterms:modified xsi:type="dcterms:W3CDTF">2013-04-08T16:35:02Z</dcterms:modified>
  <cp:revision>12</cp:revision>
  <dc:subject/>
  <dc:title>Me llamo ___________ Clase 7 IM La fecha es el 28 de abril del 2011</dc:title>
</cp:coreProperties>
</file>